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AF59-0904-4FF4-8F20-A53ACF565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9E44-4E1A-4D18-A4A8-BB379FE3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519-8605-460D-86EF-5B1B5FBA1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021-7A16-41B4-A528-D7A390A6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2B4-244D-40B2-9932-C086AAAB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92A-9CB1-4CAA-BFAA-F3A71822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25A-ACF7-4935-A5C3-792165BC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A88-99D0-4ED7-A708-2A0B6412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D78-D858-4FF4-9DC3-3BA1E316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A66-3EDA-4C84-B675-1390D4C9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5EA-26C9-4120-9D95-043C39E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882-BB7D-4FAF-9756-AB75751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C0C-29A6-49D3-BEDE-A9D268E4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E28-B4E9-4D1B-B801-CABE94F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3FF-6BFA-488E-A0C1-81514802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2F46-D7FC-42F7-BD28-D295DB66B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0318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6"/>
          <p:cNvSpPr/>
          <p:nvPr/>
        </p:nvSpPr>
        <p:spPr>
          <a:xfrm>
            <a:off x="122508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6"/>
          <p:cNvSpPr/>
          <p:nvPr/>
        </p:nvSpPr>
        <p:spPr>
          <a:xfrm flipH="1">
            <a:off x="2057400" y="63244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886200"/>
            <a:ext cx="41911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327672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Hermosa Lesley! Tienes hermanos? Cuantos tienes? Como 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lama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Bonita Rosario! Yo tengo un hermano, y una hermana. Ellos se lla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rika y Pablo. Como estas rosario, tenemos mucho tiempo sin habl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ajaja si, 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1"/>
          <p:cNvSpPr/>
          <p:nvPr/>
        </p:nvSpPr>
        <p:spPr>
          <a:xfrm>
            <a:off x="1066680" y="64771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7" descr="hoew.jpg"/>
          <p:cNvPicPr/>
          <p:nvPr/>
        </p:nvPicPr>
        <p:blipFill>
          <a:blip r:embed="rId9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ake.jpg"/>
          <p:cNvPicPr/>
          <p:nvPr/>
        </p:nvPicPr>
        <p:blipFill>
          <a:blip r:embed="rId10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kat.jpg"/>
          <p:cNvPicPr/>
          <p:nvPr/>
        </p:nvPicPr>
        <p:blipFill>
          <a:blip r:embed="rId11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5"/>
          <p:cNvSpPr/>
          <p:nvPr/>
        </p:nvSpPr>
        <p:spPr>
          <a:xfrm>
            <a:off x="114876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rosi.jpeg"/>
          <p:cNvPicPr/>
          <p:nvPr/>
        </p:nvPicPr>
        <p:blipFill>
          <a:blip r:embed="rId12"/>
          <a:stretch/>
        </p:blipFill>
        <p:spPr>
          <a:xfrm>
            <a:off x="2133720" y="45720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rosi.jpeg"/>
          <p:cNvPicPr/>
          <p:nvPr/>
        </p:nvPicPr>
        <p:blipFill>
          <a:blip r:embed="rId13"/>
          <a:stretch/>
        </p:blipFill>
        <p:spPr>
          <a:xfrm>
            <a:off x="2209680" y="5943600"/>
            <a:ext cx="5335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9:18Z</dcterms:created>
  <dc:creator>FriscoISD</dc:creator>
  <dc:description/>
  <dc:language>en-US</dc:language>
  <cp:lastModifiedBy>NYCDOE</cp:lastModifiedBy>
  <dcterms:modified xsi:type="dcterms:W3CDTF">2012-12-07T18:30:10Z</dcterms:modified>
  <cp:revision>110</cp:revision>
  <dc:subject/>
  <dc:title>Profile</dc:title>
</cp:coreProperties>
</file>